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AD1A-2EBA-4691-8AE4-3C3C9CCFB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C3CA3-27B0-4728-92DB-F91C6ABE6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EE98-D44A-40D1-B7EC-6F2E859B3C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D80F4-848B-4308-B70C-92974B548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187B3-F998-4CBE-A822-D9A91B744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9187-E366-49C2-A36A-5D110CF70F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BD308-51EC-4051-B924-8E562D9D383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2945-0C2D-428E-BD6F-68AA9B33C4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8A423-A503-4DC3-8F5A-5FDE36908A1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371B-7CE9-4C81-9F66-2895560CAC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C3D0A-CD09-426B-B486-324F2ACA94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2F95-6C19-4C70-ABB1-A4E9E415BB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6E16-425C-4517-84D0-BA60BF3995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A0AD-DE54-4CBE-965A-1ED719A217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905F-19D0-4DCD-B3AB-E5DA186532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91AB-6DD9-4BE4-9D64-2BF05E6B65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CBC1-3615-411D-8C4A-B0C7338B4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DBC06-8D9C-4B86-8CBB-90D5DB7784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30015-21E7-4B1B-A8B9-0FB0AED881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795F5-A900-4DD4-820F-6A1ECDBB3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B8DD-8BF3-4A50-AAA9-01739A34E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3272-B37B-421E-8120-D84DFBF6A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68AB-1C1A-4CEC-8064-E9D932ECAA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7DA8-73D1-406D-A518-BFFCC84DB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D8E-9BDB-4A4D-8EA1-BCED44E43D8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42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9594-5633-484E-BF0C-9D3751205C6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1440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showingevidenc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10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ting Your Unit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67652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visiting the Unit Pla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1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Showing Evidenc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 and foundation sections, if needed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Student Assessment Plan section, add your ideas for how you would assess the learning throughout the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Assessment Timeline, as nee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Proced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Unit Summ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86214-BAF3-455F-BD92-C67203AC81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Results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1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4928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are your thoughts about your experience with the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Showing Evidence Tool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d you try out an idea for your main unit or for a different project ide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your test results, do you think you will keep this tool in your uni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see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itting in with the objectives and standards you are trying to target—and your overall plan for your unit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se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ing Evidence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nhancing your students’ higher-order thinking skills as well as collaboration and communication in your classroom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6106-C6D5-41F9-8BEB-98A713DD3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400"/>
            </a:br>
            <a:br>
              <a:rPr sz="14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1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5760" y="1371600"/>
          <a:ext cx="8237520" cy="434340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10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384984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case should require students to analyze any of the following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troversial 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batable top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al or ethical dilem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cial iss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2" marL="396720" indent="-14904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ffffff"/>
                        </a:buClr>
                        <a:buFont typeface="Verdana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llenge to an existing opin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case should contain supporting and opposing evidenc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f sufficient quantity and quality to adequately answer the promp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4009A-221F-4686-8EAA-D958CBEC64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11 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leting Your Uni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ore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Assessing Project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resour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n assessment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plete your uni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owcase your Unit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valuate the cour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ED51E-AF1A-44B0-BA02-693A19AB0D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3B208-01AD-4BD2-B357-88884D04FA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990720"/>
          <a:ext cx="8237520" cy="5381640"/>
        </p:xfrm>
        <a:graphic>
          <a:graphicData uri="http://schemas.openxmlformats.org/drawingml/2006/table">
            <a:tbl>
              <a:tblPr/>
              <a:tblGrid>
                <a:gridCol w="1447920"/>
                <a:gridCol w="6789600"/>
              </a:tblGrid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rgeting Thinking in the Classroo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2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signing Standards-Based Proj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3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reating Curriculum-Framing Questions to Suppor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4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44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ing Student-Centered Assess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5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Visual Ranking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nderstand how the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 Too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supports the argumentation 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view and rate evid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scuss best uses for the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 Too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228600" indent="-227160">
                        <a:lnSpc>
                          <a:spcPct val="100000"/>
                        </a:lnSpc>
                        <a:spcBef>
                          <a:spcPts val="799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t up a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howing Evidenc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roje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31769-0F83-467A-8291-BFFAA14283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10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the Showing Evidence Tool for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a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cas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effective questioning techniqu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se cases and Unit Plan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experi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br>
              <a:rPr sz="26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ing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F42B7-E1B6-4D14-9A00-8565843B7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10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Showing Evidence Tool for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Your Unit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91120" y="175248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Create a practice </a:t>
            </a:r>
            <a:r>
              <a:rPr b="0" i="1" lang="en-US" sz="17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 case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Discuss and practice effective questioning technique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Provide and receive feedback on project ideas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vise your case 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spcBef>
                <a:spcPts val="1276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hare your experience using </a:t>
            </a:r>
            <a:r>
              <a:rPr b="0" i="1" lang="en-US" sz="1700" spc="-1" strike="noStrike">
                <a:solidFill>
                  <a:srgbClr val="ffffff"/>
                </a:solidFill>
                <a:latin typeface="Verdana"/>
              </a:rPr>
              <a:t>Showing Evidence</a:t>
            </a:r>
            <a:endParaRPr b="1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77964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7993-93BC-4CF5-927D-F85B553A6C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reating a Practice Cas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1–10.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udent Log-I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project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new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te the eviden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ach evidence to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te the suppor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evidence to rate the clai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a conclu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8E8A-C180-4932-87BD-09E0DAEF6F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ewing Student Work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5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 as a teacher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to the Teacher Workspac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a com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D715-0F56-43AE-84E7-410E41EBB9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Practice Case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Practice Cas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10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unit’s topic, learning objectives, and overall concept with your reviewing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to each team’s Student Workspace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showingevidence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eam’s work and make comm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flecting on Your Cas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7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Showing Evidence Project Reflection Checklist and the Project Rubric on page 2.18 to review on each other’s ca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12F5-26DF-49F8-AFA0-30BDDA75F9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ng Your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10.08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Editing Your Projec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hanges to any of the project detai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sing Your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new ideas from your colleague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Internet to research evidence to add to your initial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1006-D533-45D7-9146-1799B3FC8C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10: Considering the Showing Evidence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ting Your Unit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Best Classroom Practi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10.09–10.1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art smal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your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blish project expecta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teams to succe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ign teams and review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creating an initial set of sources for evid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a practice ca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multiple methods of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EAED3-824A-4DBF-8585-72C3F9B519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4-01T18:45:58Z</dcterms:modified>
  <cp:revision>857</cp:revision>
  <dc:subject/>
  <dc:title>Slide 1</dc:title>
</cp:coreProperties>
</file>